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E45D-853C-46F5-A736-ECA0FA14D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5DCC-5D40-41FE-B845-8EEC80D2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1111-56F4-4A65-9206-920FD1AD0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68B6-0BDB-4BE2-9994-84A26EEFE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1DD2-525F-4C29-BC45-D1E731C0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D056-A04B-4A0D-A693-C3221796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CA18-E05D-4C08-ACC0-6DCD02D5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01D9-49DD-4E41-838A-72675A7D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5BF9-357A-4410-99FC-83FC9D94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31F4-453F-4485-9270-535F4EC4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9088-BFA3-4982-8721-9FD37FBF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BCA9-EA6D-464B-A221-E6B855B9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BC5E-0B57-4246-A7C2-B3643A046FF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777240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6.8 Changing Social Mores In Can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Changing Social Mores: Tolerance to Vio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minem- K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it down bitch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f you move again I'll beat the shit out of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re's a four year old boy lyin' dead with a slit throat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 your living room, ha-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Arial"/>
              </a:rPr>
              <a:t>Changing Social Mores: Attitudes Toward “Recreational”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rticle Kate returns to the run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ightly humorous way of reporting a tragic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alking about a young successful woman who developed a drug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Changing Social Mores: Attitudes Toward “Recreational” Dru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lerance for reformed drug laws are moving forward (DWI, DU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ttitudes towards recreational drugs are based on three misconce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Changing Social Mores: Attitudes Toward “Recreational” Dru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rug use usually leads to criminal beh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rugs usually lead to addi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ost adolescents are pressured to use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Changing Social Mores: </a:t>
            </a:r>
            <a:br>
              <a:rPr sz="4000"/>
            </a:b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Work Related Str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owing perception emerged that government had become too big and costly, and it’s role in the economy should be re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lobalization- employees were expected to do more with less, departments merged, perks reduced and benefits cut 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Changing Social Mores: </a:t>
            </a:r>
            <a:br>
              <a:rPr sz="4400"/>
            </a:b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Work Related St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ocial mores have shifted so that employees now expect to work harder and put in more hours than they did 20 years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ll this leads to a level of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work-related st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Changing Social Mores: </a:t>
            </a:r>
            <a:br>
              <a:rPr sz="4400"/>
            </a:b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Work Related St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udies have shown stress is more prevalent where mental pressure is persistent and the sense of personal control 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Changing Social Mores: </a:t>
            </a:r>
            <a:br>
              <a:rPr sz="4400"/>
            </a:b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Aboriginal Health Initi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ur system based on Western worldview; human body as a machine and illness as a breakdown in the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role of the medical personnel is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pair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Changing Social Mores: </a:t>
            </a:r>
            <a:br>
              <a:rPr sz="4400"/>
            </a:b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Aboriginal Health Initi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irst Nations and Inuit; human body is not a machine that can be fixed independently of a person’s spi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ll parts of the patients life must be hea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storing bal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hysical, emotional, social and spiritual aspects of healing and promotes personal role in he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Changing Social Mores: </a:t>
            </a:r>
            <a:br>
              <a:rPr sz="4400"/>
            </a:b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Aboriginal Health Initi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ocial mores have changed in this regard because anthropologists have demonstrated that it is necessary to respect cultural differences among the population when designing health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Changing Social Mores in Can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Sociologists classify our behaviours into a number of categ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 u="sng">
                <a:solidFill>
                  <a:srgbClr val="000000"/>
                </a:solidFill>
                <a:uFillTx/>
                <a:latin typeface="Arial"/>
              </a:rPr>
              <a:t>Folk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Behaviours that a typical member of socie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would usually practis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If a folway is violated the pers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would still be accepted in soci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Changing Social Mores in Can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 u="sng">
                <a:solidFill>
                  <a:srgbClr val="000000"/>
                </a:solidFill>
                <a:uFillTx/>
                <a:latin typeface="Arial"/>
              </a:rPr>
              <a:t>Social M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behaviours regarded as essential to the welfare and survival of th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breaking a social more is not acceptable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soceity but with changing attitudes th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view is slowly cha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Changing Social Mores in Can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Social M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anada’s Flokways and Social Mores have changed dramatically over gen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e will look at four areas in which our social mores have changed and how these changes affect our well be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ffffff"/>
                </a:solidFill>
                <a:latin typeface="Arial"/>
              </a:rPr>
              <a:t>Changing Social Mores: Tolerance to Vio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1619280" y="1773360"/>
            <a:ext cx="73454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Changing Social Mores: Tolerance to Vio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here is a growing tolerance for depections of violence in the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Psychologists worry that much media programming designed for young people provide them with poor ro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Starts on Saturday morning carto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Changing Social Mores: Tolerance to Vio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Media Awareness Network found that by the time most children are 12 they have seen up to  12 000 violent deaths on 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fenders of the programming often st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at children recognize that it’s a cartoon and that it’s f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Changing Social Mores: Tolerance to Vio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sychologists point out that violence is a learned behaviour and that early and continued exposure can condition children to act in violent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articular concern is directed at movies and mus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Changing Social Mores: Tolerance to Vio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minem- Love the Way You 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'm tired of the games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 just want her back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 know I'm a liar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f she ever tries to fucking leave again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'mma tie her to the bed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nd set the house on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20:21:09Z</dcterms:created>
  <dc:creator>Mariajose</dc:creator>
  <dc:description/>
  <dc:language>en-US</dc:language>
  <cp:lastModifiedBy>Jason</cp:lastModifiedBy>
  <dcterms:modified xsi:type="dcterms:W3CDTF">2011-05-25T16:12:08Z</dcterms:modified>
  <cp:revision>14</cp:revision>
  <dc:subject/>
  <dc:title>Title</dc:title>
</cp:coreProperties>
</file>